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126A-27B0-4A36-80AC-21E45C439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39AD-7A4C-4A5F-9CC7-1BD75FD33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E6EE-1BC2-4713-922D-5D493632C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AF1C-314C-4822-875D-9BC9CF64A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687C-B73E-47E4-80A5-10C9CE5DD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B574-0F18-41B9-AC8B-D76CC8690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EBC9-F817-4514-A4D6-3B36E2AE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7602-88BA-4AAD-BC70-637C5F750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29BD-9ABC-461A-9CFD-36C5E16C2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9BC2-F419-4547-9317-4565B4E3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A9FF-B938-4B4C-A5DA-2059A3E7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84DE-B5CD-4D0D-87B6-0CAB19D7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F2412-D19F-4EB7-803B-17D468F283D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 Light"/>
              </a:rPr>
              <a:t>Micro-module 2: Personalization of the service</a:t>
            </a:r>
            <a:r>
              <a:rPr b="1" i="1" lang="en-GB" sz="3600" spc="-1" strike="noStrike">
                <a:solidFill>
                  <a:srgbClr val="000000"/>
                </a:solidFill>
                <a:latin typeface="Calibri Light"/>
              </a:rPr>
              <a:t> (Personalization of the service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2" name="Obrázok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 Light"/>
              </a:rPr>
              <a:t>Personalization of the service</a:t>
            </a:r>
            <a:br>
              <a:rPr sz="4400"/>
            </a:br>
            <a:r>
              <a:rPr b="1" i="1" lang="en-GB" sz="2400" spc="-1" strike="noStrike">
                <a:solidFill>
                  <a:srgbClr val="000000"/>
                </a:solidFill>
                <a:latin typeface="Calibri Light"/>
              </a:rPr>
              <a:t>Curriculum Vitae - occupation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0" name="Obrázok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2" name="Obrázok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4" name="Obrázok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 Light"/>
              </a:rPr>
              <a:t>Personalization of the service</a:t>
            </a:r>
            <a:br>
              <a:rPr sz="4400"/>
            </a:br>
            <a:r>
              <a:rPr b="1" lang="en-GB" sz="2700" spc="-1" strike="noStrike">
                <a:solidFill>
                  <a:srgbClr val="000000"/>
                </a:solidFill>
                <a:latin typeface="Calibri Light"/>
              </a:rPr>
              <a:t>Picture story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6" name="Obrázok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8" name="Obrázok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Guidance in specific life situations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Obrázok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6" name="Obrázok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8" name="Obrázok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 Light"/>
              </a:rPr>
              <a:t>Personalization of the service</a:t>
            </a:r>
            <a:r>
              <a:rPr b="1" i="1" lang="en-GB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br>
              <a:rPr sz="4400"/>
            </a:br>
            <a:r>
              <a:rPr b="1" i="1" lang="en-GB" sz="4400" spc="-1" strike="noStrike">
                <a:solidFill>
                  <a:srgbClr val="000000"/>
                </a:solidFill>
                <a:latin typeface="Calibri Light"/>
              </a:rPr>
              <a:t>Intuition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0" name="Obrázok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2" name="Obrázok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 Light"/>
              </a:rPr>
              <a:t>Personalization of the service</a:t>
            </a:r>
            <a:br>
              <a:rPr sz="4400"/>
            </a:br>
            <a:r>
              <a:rPr b="1" i="1" lang="en-GB" sz="2700" spc="-1" strike="noStrike">
                <a:solidFill>
                  <a:srgbClr val="000000"/>
                </a:solidFill>
                <a:latin typeface="Calibri Light"/>
              </a:rPr>
              <a:t>What connects us and what makes us different?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4" name="Obrázok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6" name="Obrázok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 Light"/>
              </a:rPr>
              <a:t>Personalization of the service</a:t>
            </a:r>
            <a:br>
              <a:rPr sz="4400"/>
            </a:br>
            <a:r>
              <a:rPr b="1" i="1" lang="en-GB" sz="2700" spc="-1" strike="noStrike">
                <a:solidFill>
                  <a:srgbClr val="000000"/>
                </a:solidFill>
                <a:latin typeface="Calibri Light"/>
              </a:rPr>
              <a:t>Specific target groups for the labour market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8" name="Obrázok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03T21:25:03Z</dcterms:created>
  <dc:creator>Ildiko</dc:creator>
  <dc:description/>
  <dc:language>en-US</dc:language>
  <cp:lastModifiedBy>Ildiko</cp:lastModifiedBy>
  <dcterms:modified xsi:type="dcterms:W3CDTF">2018-11-04T14:01:34Z</dcterms:modified>
  <cp:revision>1</cp:revision>
  <dc:subject/>
  <dc:title>Micro-module 2: Personalization of the service (Personalization of the service) </dc:title>
</cp:coreProperties>
</file>